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177-B991-46BA-8D74-436DA040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7E5-6B35-4DAF-8B0E-4CB1223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2D-FCF1-4501-AA24-BE824DC5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2C3-5008-4A96-94BB-1AA64B9F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394-CAD1-44F6-9EEA-B8064EF1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3E0-77CF-432B-854D-D3E82A3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3F8-5D14-4F14-83A3-1C4AE5E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B8D-C9B9-4880-891B-E5E885DD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383-AEB8-483C-A4A8-817B09D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6DA-4735-4B51-A653-D4FDBE2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6AF-207E-45E6-9465-75CD9AE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846-E2F5-4820-9192-38E2C0B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EF6-6525-4DD7-B08A-3DA08C098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484280"/>
            <a:ext cx="87836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1" i="1" lang="en-US" sz="5600" spc="-1" strike="noStrike">
                <a:solidFill>
                  <a:srgbClr val="808080"/>
                </a:solidFill>
                <a:latin typeface="Arial"/>
              </a:rPr>
              <a:t>Lesson 18:</a:t>
            </a:r>
            <a:r>
              <a:rPr b="1" i="1" lang="en-US" sz="6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8080"/>
                </a:solidFill>
                <a:latin typeface="Arial"/>
              </a:rPr>
              <a:t>Friendship Between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250920" y="1557360"/>
            <a:ext cx="84963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00"/>
                </a:solidFill>
                <a:latin typeface="Arial"/>
              </a:rPr>
              <a:t>1. _________ can live in desert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00"/>
                </a:solidFill>
                <a:latin typeface="Arial"/>
              </a:rPr>
              <a:t>2. Linda is a little _________ than her elder brother. When you talk to her, her face turns 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00"/>
                </a:solidFill>
                <a:latin typeface="Arial"/>
              </a:rPr>
              <a:t>3. _________ he was eating breakfast, I asked him for 100 yua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00"/>
                </a:solidFill>
                <a:latin typeface="Arial"/>
              </a:rPr>
              <a:t>4. We stood _________ and watched as the deer came clos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00"/>
                </a:solidFill>
                <a:latin typeface="Arial"/>
              </a:rPr>
              <a:t>5. Rose _________ fierce animals, so she doesn't like to go to the zo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179280" y="18900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I. </a:t>
            </a:r>
            <a:r>
              <a:rPr b="1" lang="zh-CN" sz="3300" spc="-1" strike="noStrike">
                <a:solidFill>
                  <a:srgbClr val="333300"/>
                </a:solidFill>
                <a:latin typeface="Times New Roman"/>
              </a:rPr>
              <a:t>选词填空。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341800" y="5562720"/>
            <a:ext cx="1183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99"/>
                </a:solidFill>
                <a:latin typeface="Arial"/>
              </a:rPr>
              <a:t>fea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508040" y="78588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while, fear, shy, camel, st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025640" y="1530360"/>
            <a:ext cx="167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99"/>
                </a:solidFill>
                <a:latin typeface="Arial"/>
              </a:rPr>
              <a:t>Came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3926160" y="1989000"/>
            <a:ext cx="129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99"/>
                </a:solidFill>
                <a:latin typeface="Arial"/>
              </a:rPr>
              <a:t>shy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1188360" y="3481560"/>
            <a:ext cx="129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99"/>
                </a:solidFill>
                <a:latin typeface="Arial"/>
              </a:rPr>
              <a:t>Whi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205080" y="4554360"/>
            <a:ext cx="90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99"/>
                </a:solidFill>
                <a:latin typeface="Arial"/>
              </a:rPr>
              <a:t>stil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5"/>
          <p:cNvSpPr/>
          <p:nvPr/>
        </p:nvSpPr>
        <p:spPr>
          <a:xfrm>
            <a:off x="179280" y="1176480"/>
            <a:ext cx="88934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zh-CN" sz="3300" spc="-1" strike="noStrike">
                <a:solidFill>
                  <a:srgbClr val="333300"/>
                </a:solidFill>
                <a:latin typeface="Times New Roman"/>
              </a:rPr>
              <a:t>如果你蹲下身子，狗会跑开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If you bend down, the dogs will ______ ______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zh-CN" sz="3300" spc="-1" strike="noStrike">
                <a:solidFill>
                  <a:srgbClr val="333300"/>
                </a:solidFill>
                <a:latin typeface="Times New Roman"/>
              </a:rPr>
              <a:t>鸭子摇摇摆摆地穿过马路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The ducks are _________ _________ the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3. </a:t>
            </a:r>
            <a:r>
              <a:rPr b="1" lang="zh-CN" sz="3300" spc="-1" strike="noStrike">
                <a:solidFill>
                  <a:srgbClr val="333300"/>
                </a:solidFill>
                <a:latin typeface="Times New Roman"/>
              </a:rPr>
              <a:t>我给你梳头时，不要动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_______ _______ _______ I comb your hair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4. </a:t>
            </a:r>
            <a:r>
              <a:rPr b="1" lang="zh-CN" sz="3300" spc="-1" strike="noStrike">
                <a:solidFill>
                  <a:srgbClr val="333300"/>
                </a:solidFill>
                <a:latin typeface="Times New Roman"/>
              </a:rPr>
              <a:t>那个小女孩不怕老虎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00"/>
                </a:solidFill>
                <a:latin typeface="Times New Roman"/>
              </a:rPr>
              <a:t>The little girl _______ _______ _______  tig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2771640" y="5435640"/>
            <a:ext cx="4535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isn't    scared    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/ does     not        fe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79280" y="312840"/>
            <a:ext cx="777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II. </a:t>
            </a:r>
            <a:r>
              <a:rPr b="1" lang="zh-CN" sz="3300" spc="-1" strike="noStrike">
                <a:solidFill>
                  <a:srgbClr val="009900"/>
                </a:solidFill>
                <a:latin typeface="Times New Roman"/>
              </a:rPr>
              <a:t>根据所给汉语意思，翻译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6157800" y="1805040"/>
            <a:ext cx="2344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run    awa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2845800" y="3029040"/>
            <a:ext cx="3695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waddling   acro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397800" y="4200480"/>
            <a:ext cx="4272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Keep      still     wh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3"/>
          <p:cNvSpPr/>
          <p:nvPr/>
        </p:nvSpPr>
        <p:spPr>
          <a:xfrm>
            <a:off x="108000" y="1181160"/>
            <a:ext cx="882000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—What will you do this Saturday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 will go to the zoo to _____ the lion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. hea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. look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. read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. se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I ____ look after my father because he is ill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. needn't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B. had t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. have to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D. ha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There is ______ new animal at the zoo. ______ animal is lovel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. a; An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. a; 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. an; an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. an; 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701800" y="4516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1403280" y="476280"/>
            <a:ext cx="331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I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单项选择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486072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1117440" y="2789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58920" y="404640"/>
            <a:ext cx="619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cc00ff"/>
                </a:solidFill>
                <a:latin typeface="Arial"/>
              </a:rPr>
              <a:t>Homework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6200" y="184464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you do if you go to the zo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know anything that we cannot do in the zoo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68360" y="4336920"/>
            <a:ext cx="633564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Arial"/>
              </a:rPr>
              <a:t>Think about it, and write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008000"/>
                </a:solidFill>
                <a:latin typeface="Arial"/>
              </a:rPr>
              <a:t>a short paragrap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68360" y="5157720"/>
            <a:ext cx="59752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ff"/>
                </a:solidFill>
                <a:latin typeface="Times New Roman"/>
              </a:rPr>
              <a:t>1) use</a:t>
            </a:r>
            <a:r>
              <a:rPr b="1" lang="zh-CN" sz="3500" spc="-1" strike="noStrike">
                <a:solidFill>
                  <a:srgbClr val="3333ff"/>
                </a:solidFill>
                <a:latin typeface="Times New Roman"/>
              </a:rPr>
              <a:t>的用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ff"/>
                </a:solidFill>
                <a:latin typeface="Times New Roman"/>
              </a:rPr>
              <a:t>2) warn</a:t>
            </a:r>
            <a:r>
              <a:rPr b="1" lang="zh-CN" sz="3500" spc="-1" strike="noStrike">
                <a:solidFill>
                  <a:srgbClr val="3333ff"/>
                </a:solidFill>
                <a:latin typeface="Times New Roman"/>
              </a:rPr>
              <a:t>的用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26040" y="981000"/>
            <a:ext cx="401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00cc"/>
                </a:solidFill>
                <a:latin typeface="Arial"/>
              </a:rPr>
              <a:t>I. Learning aim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3440" y="1628640"/>
            <a:ext cx="822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ff"/>
                </a:solidFill>
                <a:latin typeface="Times New Roman"/>
              </a:rPr>
              <a:t>Remember the new words: friendship, rhino, skin, warn, insect, relationship, survive, mzee, hippo, tortoise, truly, bounda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4920" y="443700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00cc"/>
                </a:solidFill>
                <a:latin typeface="Arial"/>
              </a:rPr>
              <a:t>II. Learning important and difficult point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89000"/>
            <a:ext cx="5113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22200" y="1341360"/>
            <a:ext cx="7453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iendship                        rh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kin                                   w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ect                           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ive                              mz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ppo                              tort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ly                             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619280" y="1341360"/>
            <a:ext cx="583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008000"/>
                </a:solidFill>
                <a:latin typeface="Arial"/>
              </a:rPr>
              <a:t>Think About I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95280" y="2781360"/>
            <a:ext cx="828036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50"/>
              </a:spcBef>
              <a:buClr>
                <a:srgbClr val="0099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9900cc"/>
                </a:solidFill>
                <a:latin typeface="Arial"/>
              </a:rPr>
              <a:t>Do you think there is friendship between animal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buClr>
                <a:srgbClr val="0099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9900cc"/>
                </a:solidFill>
                <a:latin typeface="Arial"/>
              </a:rPr>
              <a:t>What different animals have you seen living well togeth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40000" y="1557360"/>
            <a:ext cx="5183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ff00ff"/>
                </a:solidFill>
                <a:latin typeface="Arial"/>
              </a:rPr>
              <a:t>Language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i="1" lang="en-US" sz="7600" spc="-1" strike="noStrike">
                <a:solidFill>
                  <a:srgbClr val="ff00ff"/>
                </a:solidFill>
                <a:latin typeface="Arial"/>
              </a:rPr>
              <a:t>Point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684360" y="907920"/>
            <a:ext cx="7848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</a:rPr>
              <a:t>I used to think only the same animals live together. </a:t>
            </a:r>
            <a:r>
              <a:rPr b="1" lang="zh-CN" sz="3300" spc="-1" strike="noStrike">
                <a:solidFill>
                  <a:srgbClr val="ff0066"/>
                </a:solidFill>
                <a:latin typeface="Times New Roman"/>
              </a:rPr>
              <a:t>我过去曾认为只有相同的动物生活在一起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39640" y="2708280"/>
            <a:ext cx="820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used to do</a:t>
            </a:r>
            <a:r>
              <a:rPr b="1" lang="zh-CN" sz="3300" spc="-1" strike="noStrike">
                <a:solidFill>
                  <a:srgbClr val="009900"/>
                </a:solidFill>
                <a:latin typeface="Times New Roman"/>
              </a:rPr>
              <a:t>意为“曾经是；过去常常”，表示过去存在的状态，或过去经常做某事而现在不做了。</a:t>
            </a: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used</a:t>
            </a:r>
            <a:r>
              <a:rPr b="1" lang="zh-CN" sz="3300" spc="-1" strike="noStrike">
                <a:solidFill>
                  <a:srgbClr val="009900"/>
                </a:solidFill>
                <a:latin typeface="Times New Roman"/>
              </a:rPr>
              <a:t>没有人称和数的变化。如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042920" y="465300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used to go to work by bus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他过去常常坐公共汽车去上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971640" y="2133720"/>
            <a:ext cx="748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not quite used to the weather here yet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还不太习惯这里的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26920" y="54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e used to + n. / doing sth.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意为“习惯于（做）某事”，注意这里的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o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是介词，后面要接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V-ing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形式。如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71640" y="5013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knife is used to cut brea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把刀子是用来切面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11280" y="3716280"/>
            <a:ext cx="820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be used to do sth. </a:t>
            </a:r>
            <a:r>
              <a:rPr b="1" lang="zh-CN" sz="3300" spc="-1" strike="noStrike">
                <a:solidFill>
                  <a:srgbClr val="009900"/>
                </a:solidFill>
                <a:latin typeface="Times New Roman"/>
              </a:rPr>
              <a:t>意为“被用来做某事”，这个结构表示被动。如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11280" y="2421000"/>
            <a:ext cx="7848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动词，意为“警告；注意”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 sb. to do sth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意为“提醒（或警告）某人做某事”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 sb. of sth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为“提醒某人某事”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 sb. about / against sth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 sb. against doing sth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为“提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警告某人不要去做某事”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名词，意为“警告；预告；通知”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11280" y="620640"/>
            <a:ext cx="7848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ff"/>
                </a:solidFill>
                <a:latin typeface="Arial"/>
              </a:rPr>
              <a:t>2. It also makes noise to warn the rhino about coming danger. </a:t>
            </a:r>
            <a:r>
              <a:rPr b="1" lang="zh-CN" sz="3300" spc="-1" strike="noStrike">
                <a:solidFill>
                  <a:srgbClr val="ff00ff"/>
                </a:solidFill>
                <a:latin typeface="Arial"/>
              </a:rPr>
              <a:t>它也可以发出噪音来警告犀牛即将到来的危险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11280" y="5589720"/>
            <a:ext cx="78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He has been warned of the danger of driving after drinking wine. </a:t>
            </a:r>
            <a:r>
              <a:rPr b="1" lang="zh-CN" sz="2500" spc="-1" strike="noStrike">
                <a:solidFill>
                  <a:srgbClr val="008000"/>
                </a:solidFill>
                <a:latin typeface="Arial"/>
              </a:rPr>
              <a:t>已经提醒过他酒后驾车的危险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419640" y="234936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99"/>
                </a:solidFill>
                <a:latin typeface="Arial"/>
              </a:rPr>
              <a:t>Exerci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15:49Z</dcterms:created>
  <dc:creator> </dc:creator>
  <dc:description> </dc:description>
  <dc:language>en-US</dc:language>
  <cp:lastModifiedBy>Administrator</cp:lastModifiedBy>
  <dcterms:modified xsi:type="dcterms:W3CDTF">2019-01-02T02:16:4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